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128-DB0A-4F54-B55C-C314C7DE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7B4-9505-4FAF-BC80-B54F6162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366-2B5D-4E3F-8BC1-95FF4032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D64-A6F7-4D6D-B39A-E6316BA0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2B7-C495-400C-9E6B-6257D507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40A-92EB-41C0-95D9-FC68F3C4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9BE4-A7A5-48E6-AECE-722AA10B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0A9C-7A6D-4F19-9DB5-581E5E1D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BF3-D9BE-4BAD-B447-9C0DBA7D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6076-E2AB-43F3-9D7A-0B2FEDBE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6A8-D6F9-4155-AC64-A935452D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657-0E83-47FB-B5C8-BDBDACA9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12B6-766B-4556-BDFF-429B6D50A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14200" y="5072040"/>
            <a:ext cx="854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ntaż zbior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az 3" descr="Image01 ze strzałkami.JPG"/>
          <p:cNvPicPr/>
          <p:nvPr/>
        </p:nvPicPr>
        <p:blipFill>
          <a:blip r:embed="rId1"/>
          <a:stretch/>
        </p:blipFill>
        <p:spPr>
          <a:xfrm>
            <a:off x="2071800" y="0"/>
            <a:ext cx="70722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214200" y="5072040"/>
            <a:ext cx="854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ntaż wtryskiwacza i ru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raz 4" descr="Image17 ze strzałkami.JPG"/>
          <p:cNvPicPr/>
          <p:nvPr/>
        </p:nvPicPr>
        <p:blipFill>
          <a:blip r:embed="rId1"/>
          <a:stretch/>
        </p:blipFill>
        <p:spPr>
          <a:xfrm>
            <a:off x="2095560" y="0"/>
            <a:ext cx="70484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0" y="404640"/>
            <a:ext cx="914400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ole tekstowe 3"/>
          <p:cNvSpPr/>
          <p:nvPr/>
        </p:nvSpPr>
        <p:spPr>
          <a:xfrm>
            <a:off x="357120" y="42876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aż wtryskiwac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az 4" descr="Image18 ze strzałkam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ole tekstowe 5"/>
          <p:cNvSpPr/>
          <p:nvPr/>
        </p:nvSpPr>
        <p:spPr>
          <a:xfrm>
            <a:off x="2071800" y="214200"/>
            <a:ext cx="61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zewody gazowe bez homologacj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osób prowadz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art 1" descr=""/>
          <p:cNvPicPr/>
          <p:nvPr/>
        </p:nvPicPr>
        <p:blipFill>
          <a:blip r:embed="rId1"/>
          <a:stretch/>
        </p:blipFill>
        <p:spPr>
          <a:xfrm>
            <a:off x="179280" y="-6480"/>
            <a:ext cx="8977320" cy="6864480"/>
          </a:xfrm>
          <a:prstGeom prst="rect">
            <a:avLst/>
          </a:prstGeom>
          <a:ln w="0">
            <a:noFill/>
          </a:ln>
        </p:spPr>
      </p:pic>
      <p:sp>
        <p:nvSpPr>
          <p:cNvPr id="50" name="pole tekstowe 3"/>
          <p:cNvSpPr/>
          <p:nvPr/>
        </p:nvSpPr>
        <p:spPr>
          <a:xfrm>
            <a:off x="1979640" y="126828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zkodzenia reaktorów katalitycz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3434" t="7396" r="8956" b="7396"/>
          <a:stretch/>
        </p:blipFill>
        <p:spPr>
          <a:xfrm>
            <a:off x="-1116000" y="0"/>
            <a:ext cx="10402920" cy="69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ole tekstowe 3"/>
          <p:cNvSpPr/>
          <p:nvPr/>
        </p:nvSpPr>
        <p:spPr>
          <a:xfrm>
            <a:off x="285840" y="528624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zkodzenia reaktorów katalitycz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az 3" descr="merc_vito 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ole tekstowe 5"/>
          <p:cNvSpPr/>
          <p:nvPr/>
        </p:nvSpPr>
        <p:spPr>
          <a:xfrm>
            <a:off x="857160" y="85716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ŻA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ole tekstowe 3"/>
          <p:cNvSpPr/>
          <p:nvPr/>
        </p:nvSpPr>
        <p:spPr>
          <a:xfrm>
            <a:off x="285840" y="528624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zkodzenia reaktorów katalitycz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az 3" descr="merc_vito 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Obraz 4" descr="merc_vito 02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08:22:07Z</dcterms:created>
  <dc:creator>xx</dc:creator>
  <dc:description/>
  <dc:language>en-US</dc:language>
  <cp:lastModifiedBy>adam.majerczyk</cp:lastModifiedBy>
  <dcterms:modified xsi:type="dcterms:W3CDTF">2008-09-26T19:04:36Z</dcterms:modified>
  <cp:revision>26</cp:revision>
  <dc:subject/>
  <dc:title>Slajd 1</dc:title>
</cp:coreProperties>
</file>